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F86-2EAD-45A1-B68E-27353D77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10E-8F8D-4635-AB32-0CF7BC74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332-4E4F-40C7-9EB7-5D5260E8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F3CA-5DFB-4DF2-B6E5-DFBD1FD6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94802-D55B-474A-A6F6-77637A80D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BDE2-585F-4CAD-9287-888C1BA2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666F-7B3E-4572-AA98-EA4B7C41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88BA-77C5-462F-99FC-9B85784E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9594-7EE6-46DB-B9BF-1E2D01DC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0DCC-8019-49BC-9570-13DC17BB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4BC0-979B-4652-A152-4CF18FB6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F44D-11E7-4FE2-9FDD-5AD18F9B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A9B1-1010-4240-85C7-31EDF8F7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097A-08B4-4311-ADA8-7C8A3954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5A67-2760-4148-A61E-62AE740A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5A1E-EE76-4C95-8161-6B6FA7DB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E407-0742-4335-9184-F381F7DB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D64-EB4D-4A38-87FD-7A241A3F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5FE-264D-4AEC-8739-D9147188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0CB-3A09-4A61-BB98-D8B11229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1C5-479E-4422-BA95-BFF9048D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1605-E3A1-401A-8E7F-578075F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030-1DC0-4077-8F64-3295BFB0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C41-B393-41F8-B711-80061AB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F74D-0ACE-4F35-8201-F9D1B136A03E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28F5-AFFE-42A2-9B96-D9AA1F576366}" type="slidenum">
              <a:rPr b="0" lang="ar-SA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82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ar-EG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2060"/>
                </a:solidFill>
                <a:latin typeface="Arial"/>
              </a:rPr>
              <a:t>Large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ntestin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8000" y="990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anatomy of the Base of the appendix (McBurney’s point)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4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represented by a point at the junction of lateral 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 baseline="-25000">
                <a:solidFill>
                  <a:srgbClr val="001933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rd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and medial 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 baseline="-25000">
                <a:solidFill>
                  <a:srgbClr val="001933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rd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of a line connecting anterior superior iliac spine and the umbilic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979640" y="3500280"/>
            <a:ext cx="533880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nical no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nflammation of the appendix (appendicitis) causes ill-defined colicky pain, felt in the umbilical region </a:t>
            </a:r>
            <a:r>
              <a:rPr b="1" i="1" lang="en-US" sz="3200" spc="-1" strike="noStrike" u="sng">
                <a:solidFill>
                  <a:srgbClr val="d9d8ec"/>
                </a:solidFill>
                <a:uFillTx/>
                <a:latin typeface="Times New Roman"/>
                <a:ea typeface="Times New Roman"/>
              </a:rPr>
              <a:t>(referred pain)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Because, the appendix is supplied with sympathetic fibers from 10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horacic spinal cord segment, and the 10</a:t>
            </a:r>
            <a:r>
              <a:rPr b="0" lang="en-US" sz="32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thoracic somatic nerve supplies the skin of umbilical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ending colon</a:t>
            </a:r>
            <a:br>
              <a:rPr sz="30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28240" y="1143000"/>
            <a:ext cx="85755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begins as a continuation of the cecum and ends just below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it continues with the   transverse colon 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right colic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flex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eritoneal covering: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t is covered by peritoneum anteriorly and on each side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58920" y="3357720"/>
            <a:ext cx="678168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upply of ascending colon</a:t>
            </a:r>
            <a:br>
              <a:rPr sz="34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15000"/>
              </a:lnSpc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terial supply: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From superior mesenteric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15000"/>
              </a:lnSpc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leocolic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15000"/>
              </a:lnSpc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Right Colic ar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15000"/>
              </a:lnSpc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15000"/>
              </a:lnSpc>
              <a:buClr>
                <a:srgbClr val="ccc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Venous drainage: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It drains its venous blood into the veins corresponding to the arterial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ermi"/>
          <p:cNvPicPr/>
          <p:nvPr/>
        </p:nvPicPr>
        <p:blipFill>
          <a:blip r:embed="rId1"/>
          <a:stretch/>
        </p:blipFill>
        <p:spPr>
          <a:xfrm>
            <a:off x="4859280" y="1916280"/>
            <a:ext cx="40384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verse colon</a:t>
            </a:r>
            <a:br>
              <a:rPr sz="3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28600" y="76176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runs from the right colic (hepatic) flexure across the abdomen to the </a:t>
            </a: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left colic (splenic) flexure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completely covered with peritoneum which forms transverse mesocolon and it is freely mobile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Relations</a:t>
            </a:r>
            <a:r>
              <a:rPr b="1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nterior relations: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Liver, stomach and greater omentum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Posterior relations: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Second part duodenum, head of pancreas, jejunum and left kidney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97" descr="http://4.bp.blogspot.com/_SUI6mWLP3x8/TJDDFz_OeQI/AAAAAAAACk0/uhSR-F7GIN0/s1600/stenosis++posterior+relations.jpg"/>
          <p:cNvPicPr/>
          <p:nvPr/>
        </p:nvPicPr>
        <p:blipFill>
          <a:blip r:embed="rId1"/>
          <a:stretch/>
        </p:blipFill>
        <p:spPr>
          <a:xfrm>
            <a:off x="1476360" y="4191120"/>
            <a:ext cx="63244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verse mesoco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052280"/>
            <a:ext cx="84582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ransverse colon is suspended from the posterior abdominal wall by its</a:t>
            </a:r>
            <a:r>
              <a:rPr b="1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ransverse mesocolon which is attached to the anterior border of pancreas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Contents of transverse mesocolon</a:t>
            </a:r>
            <a:r>
              <a:rPr b="1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ransverse colon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Middle colic artery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Extra-peritoneal fat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ympathetic nerves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97" descr="http://4.bp.blogspot.com/_SUI6mWLP3x8/TJDDFz_OeQI/AAAAAAAACk0/uhSR-F7GIN0/s1600/stenosis++posterior+relations.jpg"/>
          <p:cNvPicPr/>
          <p:nvPr/>
        </p:nvPicPr>
        <p:blipFill>
          <a:blip r:embed="rId1"/>
          <a:stretch/>
        </p:blipFill>
        <p:spPr>
          <a:xfrm>
            <a:off x="3492360" y="3645000"/>
            <a:ext cx="5459400" cy="30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337680"/>
            <a:ext cx="792468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767ff"/>
                </a:solidFill>
                <a:latin typeface="Times New Roman"/>
                <a:ea typeface="Times New Roman"/>
              </a:rPr>
              <a:t>Blood supply of transverse colon</a:t>
            </a:r>
            <a:br>
              <a:rPr sz="34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914040"/>
            <a:ext cx="4038480" cy="51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7440" indent="-577440"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rterial supply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3040" indent="-488520" rtl="1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Right 2/3 by right and middle colic arteries of </a:t>
            </a:r>
            <a:r>
              <a:rPr b="0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superior mesenteric artery</a:t>
            </a:r>
            <a:r>
              <a:rPr b="0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3040" indent="-488520" rtl="1">
              <a:lnSpc>
                <a:spcPct val="11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Left 1/3 by ascending branch of left colic artery from </a:t>
            </a:r>
            <a:r>
              <a:rPr b="0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inferior mesenteric artery</a:t>
            </a:r>
            <a:r>
              <a:rPr b="0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440" indent="-577440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767ff"/>
                </a:solidFill>
                <a:latin typeface="Times New Roman"/>
                <a:ea typeface="Times New Roman"/>
              </a:rPr>
              <a:t>Venous drainage: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It drains its venous blood into the veins corresponding to the arterial supply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96" descr="http://t2.gstatic.com/images?q=tbn:ANd9GcTF0YUIklaF0RcXqhPIH5XiqYLYZDA7VmvSazAwYYbUeRNz9ulV"/>
          <p:cNvPicPr/>
          <p:nvPr/>
        </p:nvPicPr>
        <p:blipFill>
          <a:blip r:embed="rId1"/>
          <a:stretch/>
        </p:blipFill>
        <p:spPr>
          <a:xfrm>
            <a:off x="4572000" y="198900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ing colon</a:t>
            </a:r>
            <a:br>
              <a:rPr sz="3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990720"/>
            <a:ext cx="4407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runs from the left colic (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plenic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) flexure and descends till the pelvic brim to continue as 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igmoid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pelvic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) colon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covered by peritoneum anteriorly and on each side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colon labeled"/>
          <p:cNvPicPr/>
          <p:nvPr/>
        </p:nvPicPr>
        <p:blipFill>
          <a:blip r:embed="rId1"/>
          <a:stretch/>
        </p:blipFill>
        <p:spPr>
          <a:xfrm>
            <a:off x="4788000" y="1916280"/>
            <a:ext cx="4052880" cy="42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 of descending col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428480"/>
            <a:ext cx="4643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Anteriorly:</a:t>
            </a:r>
            <a:r>
              <a:rPr b="1" lang="en-US" sz="2200" spc="-1" strike="noStrike">
                <a:solidFill>
                  <a:srgbClr val="0019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Coils of small intestine, the greater omentum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Posteriorly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1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viscera:  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the lateral border of  left kidney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4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Muscles: 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the transversus abdominis muscle, the quadratus lumborum,, the iliacus, and the left psoas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1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 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Arial"/>
              </a:rPr>
              <a:t>bone: 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the iliac crest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33"/>
                </a:solidFill>
                <a:latin typeface="Arial"/>
              </a:rPr>
              <a:t>4</a:t>
            </a:r>
            <a:r>
              <a:rPr b="1" lang="en-US" sz="2200" spc="-1" strike="noStrike">
                <a:solidFill>
                  <a:srgbClr val="0019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1933"/>
                </a:solidFill>
                <a:latin typeface="Arial"/>
              </a:rPr>
              <a:t>nerves: </a:t>
            </a:r>
            <a:r>
              <a:rPr b="0" lang="en-US" sz="2200" spc="-1" strike="noStrike">
                <a:solidFill>
                  <a:srgbClr val="001933"/>
                </a:solidFill>
                <a:latin typeface="Arial"/>
              </a:rPr>
              <a:t>The iliohypogastric and the ilioinguinal nerves, the lateral cutaneous nerve of the thigh, and the femoral ner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572000" y="1428840"/>
            <a:ext cx="4572000" cy="52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5700" spc="-1" strike="noStrike">
                <a:solidFill>
                  <a:srgbClr val="3f477f"/>
                </a:solidFill>
                <a:latin typeface="Times New Roman"/>
                <a:ea typeface="Gulim"/>
              </a:rPr>
              <a:t>Large Intestine</a:t>
            </a:r>
            <a:br>
              <a:rPr sz="3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Length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 is about 1.5 met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Part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Gulim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Caecum and appendi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- Colon: (ascending,transverse,descending and pelvi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Flexures (right and left colic flexure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Rectu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Gulim"/>
              </a:rPr>
              <a:t>- Anal 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32" descr="http://catalog.nucleusinc.com/imagescooked/406W.jpg"/>
          <p:cNvPicPr/>
          <p:nvPr/>
        </p:nvPicPr>
        <p:blipFill>
          <a:blip r:embed="rId1"/>
          <a:stretch/>
        </p:blipFill>
        <p:spPr>
          <a:xfrm>
            <a:off x="4859280" y="2133720"/>
            <a:ext cx="403380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upply of descending co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1628640"/>
            <a:ext cx="43927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 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rterial Supply:</a:t>
            </a: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Upper and lower left colic arteries (inferior mesentric)</a:t>
            </a: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hey form marginal arteries (vasa recti) at the wall of the colon</a:t>
            </a: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767ff"/>
                </a:solidFill>
                <a:latin typeface="Times New Roman"/>
                <a:ea typeface="Times New Roman"/>
              </a:rPr>
              <a:t>Venous drainage:</a:t>
            </a: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to inferior mesentric vein which ends in splenic vein</a:t>
            </a:r>
            <a:r>
              <a:rPr b="1" lang="en-US" sz="26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533840" cy="49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lvic (sigmoid) colon</a:t>
            </a:r>
            <a:br>
              <a:rPr sz="3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980640"/>
            <a:ext cx="4176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begins at the left side of the pelvic brim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ends at the 3</a:t>
            </a:r>
            <a:r>
              <a:rPr b="0" lang="en-US" sz="2800" spc="-1" strike="noStrike" baseline="30000">
                <a:solidFill>
                  <a:srgbClr val="001933"/>
                </a:solidFill>
                <a:latin typeface="Times New Roman"/>
                <a:ea typeface="Times New Roman"/>
              </a:rPr>
              <a:t>rd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sacral piece where the rectum begins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describes S-shaped course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completely covered with peritoneum and suspended by the sigmoid mesocolon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http://en.academic.ru/pictures/enwiki/70/Female_anatomy.png"/>
          <p:cNvPicPr/>
          <p:nvPr/>
        </p:nvPicPr>
        <p:blipFill>
          <a:blip r:embed="rId1"/>
          <a:stretch/>
        </p:blipFill>
        <p:spPr>
          <a:xfrm>
            <a:off x="4140360" y="981000"/>
            <a:ext cx="4775040" cy="47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upply of sigmoid co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3178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rterial supply: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igmoid branches of the inferior mesenteric artery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767ff"/>
                </a:solidFill>
                <a:latin typeface="Times New Roman"/>
                <a:ea typeface="Times New Roman"/>
              </a:rPr>
              <a:t>Venous drainage</a:t>
            </a:r>
            <a:r>
              <a:rPr b="1" lang="en-US" sz="2800" spc="-1" strike="noStrike">
                <a:solidFill>
                  <a:srgbClr val="6767ff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drains its venous blood into the veins corresponding to the arterial supply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3708360" y="1268280"/>
            <a:ext cx="5181480" cy="51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moid meso-col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s a peritoneal fold which is attached to the posterior pelvic wall by an inverted </a:t>
            </a: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V-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shaped root</a:t>
            </a: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Contents of the sigmoid mesocolon</a:t>
            </a:r>
            <a:r>
              <a:rPr b="1" lang="en-US" sz="3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igmoid colon in the free border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igmoid vessels in the lateral limb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uperior rectal vessels in the medial limb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or mesenteric artery</a:t>
            </a:r>
            <a:br>
              <a:rPr sz="30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052640"/>
            <a:ext cx="4500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Origin (start): From the front of the aorta opposite the L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runs obliquely down to the pelvic br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ermination: in the root of the pelvic meso</a:t>
            </a:r>
            <a:r>
              <a:rPr b="0" lang="en-US" sz="3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olon as the </a:t>
            </a: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uperior rectal artery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7131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 of inferior mesentric arte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599840"/>
            <a:ext cx="39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15000"/>
              </a:lnSpc>
              <a:spcBef>
                <a:spcPts val="499"/>
              </a:spcBef>
              <a:buClr>
                <a:srgbClr val="ccccff"/>
              </a:buClr>
              <a:buFont typeface="Times New Roman"/>
              <a:buAutoNum type="arabicPeriod"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Left colic artery</a:t>
            </a:r>
            <a:r>
              <a:rPr b="0" lang="en-US" sz="24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rtl="1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passes up to the left towards the splenic flexure. It divides into two branches; ascending and descending branches which anastomose with the left branch of the middle colic artery and with the sigmoid branches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rtl="1"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rtl="1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0"/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moid arteri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4 branches pass forwards between the layers of the pelvic mesoclon to anastomose at the wall of the pelvic col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- Superior rectal art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</a:t>
            </a:r>
            <a:br>
              <a:rPr sz="7000"/>
            </a:br>
            <a:br>
              <a:rPr sz="7000"/>
            </a:b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Dr. Shawky Tay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Main Differences between Small and Large intestine</a:t>
            </a:r>
            <a:r>
              <a:rPr b="0" lang="en-US" sz="4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br>
              <a:rPr sz="31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Tenia Coli: 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e the longitudinal outer muscle layer which is represented by 3 bands. They are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not found in the appendix and rect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Sacculations: 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this due the length of tenia coli is shorter than the length of the large intesti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Appendices Epiploicae: 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small sacs of peritoneum-covered fat hanging from the surface of the col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33" descr="http://www.accesssurgery.com/loadBinary.aspx?name=dohe13&amp;filename=dohe13_c030f002t.gif"/>
          <p:cNvPicPr/>
          <p:nvPr/>
        </p:nvPicPr>
        <p:blipFill>
          <a:blip r:embed="rId1"/>
          <a:stretch/>
        </p:blipFill>
        <p:spPr>
          <a:xfrm>
            <a:off x="4716360" y="170028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ecum</a:t>
            </a:r>
            <a:br>
              <a:rPr sz="5700"/>
            </a:b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560" y="1557000"/>
            <a:ext cx="42498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a mobile blind sac at the beginning of the large intest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Position: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occupies the right iliac fossa and is completely</a:t>
            </a: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covered</a:t>
            </a: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with peritone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32" descr="http://catalog.nucleusinc.com/imagescooked/406W.jpg"/>
          <p:cNvPicPr/>
          <p:nvPr/>
        </p:nvPicPr>
        <p:blipFill>
          <a:blip r:embed="rId1"/>
          <a:stretch/>
        </p:blipFill>
        <p:spPr>
          <a:xfrm>
            <a:off x="4859280" y="2133720"/>
            <a:ext cx="4033800" cy="39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37680"/>
            <a:ext cx="7924680" cy="69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Caecum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809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Relations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Anteriorly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nterior abdominal wall, greater omentum, and coils of small intestine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Posteriorly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Muscles: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Psoas major and iliacus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Arteries: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Right gonadal and External iliac artery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1933"/>
                </a:solidFill>
                <a:uFillTx/>
                <a:latin typeface="Times New Roman"/>
                <a:ea typeface="Times New Roman"/>
              </a:rPr>
              <a:t>Nerves: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Femoral, genitofemoral, and lateral cutaneous nerve of the thigh</a:t>
            </a:r>
            <a:r>
              <a:rPr b="0" lang="en-US" sz="2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34" descr="http://www.dartmouth.edu/~humananatomy/figures/chapter_27/27-12_files/image002.gif"/>
          <p:cNvPicPr/>
          <p:nvPr/>
        </p:nvPicPr>
        <p:blipFill>
          <a:blip r:embed="rId1"/>
          <a:stretch/>
        </p:blipFill>
        <p:spPr>
          <a:xfrm>
            <a:off x="3995640" y="1989000"/>
            <a:ext cx="4953240" cy="462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337680"/>
            <a:ext cx="7924680" cy="83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upply of caecu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terial supply: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nterior and posterior 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caecal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teries from </a:t>
            </a: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leocolic 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tery which is a branch from superior mesenteric artery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Venous drainage: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into superior mesenteric vein then into portal vein</a:t>
            </a:r>
            <a:r>
              <a:rPr b="0" lang="en-US" sz="28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termi"/>
          <p:cNvPicPr/>
          <p:nvPr/>
        </p:nvPicPr>
        <p:blipFill>
          <a:blip r:embed="rId1"/>
          <a:stretch/>
        </p:blipFill>
        <p:spPr>
          <a:xfrm>
            <a:off x="5181480" y="1916280"/>
            <a:ext cx="396252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miform appendix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is a worm like tube, about 10 cm long, opens by its base into posteromedial aspect of the caecum below the terminal ileum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rtl="1">
              <a:lnSpc>
                <a:spcPct val="115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rtl="1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t has a mesentery known as mesoappendix which is a triangular peritoneal fold, containing the appendicular artery in its free border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rtl="1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s of the Appendi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1. Retrocecal (65%)                                   2. Pelvic (30%)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3. Subcecal (3%)                                    4. Pre or post- ileal (2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0740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 supply of the appendix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Arterial supply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: appendicular artery from ileocolic ar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15000"/>
              </a:lnSpc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Venous drainge: </a:t>
            </a:r>
            <a:r>
              <a:rPr b="0" lang="en-US" sz="32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into superior mesenteric v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20:16:45Z</dcterms:created>
  <dc:creator>Prof. Dr. Shawky</dc:creator>
  <dc:description/>
  <dc:language>en-US</dc:language>
  <cp:lastModifiedBy>Safa Osman</cp:lastModifiedBy>
  <dcterms:modified xsi:type="dcterms:W3CDTF">2016-08-16T11:03:18Z</dcterms:modified>
  <cp:revision>8</cp:revision>
  <dc:subject/>
  <dc:title>Large intestine</dc:title>
</cp:coreProperties>
</file>